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5CB-DC42-450E-9496-6E9C82D8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C6F-3C8C-4D2F-9117-84833C48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ED8-B110-426E-900D-84E2009C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34E-1F26-4578-93B7-9134D6E6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0CE-65D7-4F60-9EFC-B00108F0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1453-73A2-4CFE-8599-1431456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57FB-9259-47B8-88A4-297EC9CC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D1BB-96C4-4585-BFF8-695E848D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179A-6DCE-4663-941E-CE1C974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678D-4A3C-46E7-B52C-F679E64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8A39-FB88-4BF4-B777-7E17E6B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CFD-C0ED-4F48-A6BA-65FBE23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9BC7-E76F-49DC-A0D8-209E23A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41E-96C9-4D24-B2C0-8919037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5F42-FD1D-4DF9-8715-6B2683C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343-9F93-4094-AF7B-89D7E137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33A2-8DE6-4283-B087-1F4E195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C6E-C632-4B5A-A7B3-DE1B4115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2B8-651D-464C-A369-3A1139F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C83-EF06-4196-B55F-5AAFE835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9FC-6089-40EA-BD8B-1A667FF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4A4-FA6B-4BA0-B4B5-45F9311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E97-09C9-4B7F-B918-2A1DD9E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C42-6E10-44C5-A0D5-89F90D1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361-AE2E-4862-A3FD-95B2B2B2983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044-BE8B-4E78-829D-9C7DC6ECC5A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597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élé«faux»realité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8888400" cy="171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clinton.gillespie\Pictures\0.jpg"/>
          <p:cNvPicPr/>
          <p:nvPr/>
        </p:nvPicPr>
        <p:blipFill>
          <a:blip r:embed="rId2"/>
          <a:stretch/>
        </p:blipFill>
        <p:spPr>
          <a:xfrm>
            <a:off x="2286000" y="2239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1"/>
          <a:stretch/>
        </p:blipFill>
        <p:spPr>
          <a:xfrm>
            <a:off x="1828800" y="12600"/>
            <a:ext cx="5870520" cy="147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Placeholder 6" descr=""/>
          <p:cNvPicPr/>
          <p:nvPr/>
        </p:nvPicPr>
        <p:blipFill>
          <a:blip r:embed="rId2"/>
          <a:stretch/>
        </p:blipFill>
        <p:spPr>
          <a:xfrm>
            <a:off x="1736640" y="1542960"/>
            <a:ext cx="6316920" cy="466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Placeholder 4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30532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clinton.gillespie\Pictures\001.jpeg"/>
          <p:cNvPicPr/>
          <p:nvPr/>
        </p:nvPicPr>
        <p:blipFill>
          <a:blip r:embed="rId2"/>
          <a:stretch/>
        </p:blipFill>
        <p:spPr>
          <a:xfrm>
            <a:off x="971640" y="1928880"/>
            <a:ext cx="7200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 renard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Users\clinton.gillespie\Pictures\f8.jpg"/>
          <p:cNvPicPr/>
          <p:nvPr/>
        </p:nvPicPr>
        <p:blipFill>
          <a:blip r:embed="rId2"/>
          <a:stretch/>
        </p:blipFill>
        <p:spPr>
          <a:xfrm>
            <a:off x="1695600" y="1523880"/>
            <a:ext cx="5752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3:48:41Z</dcterms:created>
  <dc:creator>A satisfied Microsoft Office User</dc:creator>
  <dc:description/>
  <dc:language>en-US</dc:language>
  <cp:lastModifiedBy>A satisfied Microsoft Office User</cp:lastModifiedBy>
  <dcterms:modified xsi:type="dcterms:W3CDTF">2011-02-25T02:46:02Z</dcterms:modified>
  <cp:revision>10</cp:revision>
  <dc:subject/>
  <dc:title>Pawn star$</dc:title>
</cp:coreProperties>
</file>